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0E6-AE6D-4373-871C-83EA8E0A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A41-7607-43D7-8772-B437C2BA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651-A3DD-4E10-AC36-288596DC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596-BAC0-4D7E-BE77-331B56D4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82A-8028-4753-9A6F-28A38C8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802-F6FE-4211-A5C2-275D5286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CAA-96A3-4AD7-8ED5-CAC5F7A3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36E-6286-49D1-87E1-DD31E441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16C-B818-4D2C-9EF3-8E2D0539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390-E769-4B53-9DB8-90129D0B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9D0-3E2A-4A20-A31E-A05F888E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16C-2D36-441F-9791-B8566DDD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34B1-A1F7-4FAB-87D5-E4EDF78FB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0"/>
            <a:ext cx="9372600" cy="78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tegories of Water Pollution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athoge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acteria and microorganisms that can cause human health proble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ld come from: inadequately treated sewage discharges, poorly-managed livestock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hemical and other Contaminan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ganic water pollutant examples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eter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isinfection  by-products (cleane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food processing wastes (fats and grea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insecticides and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petroleum (oil) by-products (gasoline, diesel fuel, jet fuels, motor oi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ree and bush debris from logging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chemical compounds from personal hygiene and cosmetic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organic water pollutant 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cidity caused by industrial discharges (ex: SO2 from power plan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mmonia from food processing wa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fertilizers containing nutrients (phosphorous)-agric., commercial/resi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heavy metals from cars, and acid mine drain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silt (sediment) in runoff from construction, logging, land clea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rmal Pollu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rise or fall in temperature of a natural body of water caused by a human influence.  Examples: power plant coolants and industrial manufacturers (raise water temp), and release of very cold water from the base of reservoirs into warmer riv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8:30:28Z</dcterms:created>
  <dc:creator> </dc:creator>
  <dc:description/>
  <dc:language>en-US</dc:language>
  <cp:lastModifiedBy> </cp:lastModifiedBy>
  <dcterms:modified xsi:type="dcterms:W3CDTF">2010-01-14T18:32:26Z</dcterms:modified>
  <cp:revision>1</cp:revision>
  <dc:subject/>
  <dc:title>Slide 1</dc:title>
</cp:coreProperties>
</file>